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D3F7-6417-4996-9600-4378F9FB5A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C55C-E84B-423B-8627-E76D428CAA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47C5-C663-4A54-92F7-A7BB34D3B3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41DF-ACC0-4047-B657-10A38E8197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35F-123A-4969-9F2F-D21EF359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812-39C6-406A-A523-C33BC8BC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6E2-E6C1-48C0-9D21-706D91B6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7F0-7B22-4C2B-AABA-AC654871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7A70-1311-4805-9EF1-7F727997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7B84-07D1-4D73-9328-32609385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8F3A-EBEF-493A-B69E-145EA263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119-8108-49DD-9DC1-D182CE6C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1EDC-6B2A-4252-AC2D-48969306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3773-5864-423B-9311-10DF268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04F7-4106-4426-96F4-C7CE73C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5D9-B8D8-47FE-824F-39A4FB47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8727-561A-4036-BF2E-DB1BE51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3312-1AD0-4B6E-9D69-198BD00B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DF9F-D7C9-498F-9BEF-AF7F4D0B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D575-4FBF-4A7E-8C94-782500CA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DB29-A0ED-4E43-8C5E-EAE2ED35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F4FA-976D-452D-8871-3822AA4E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73E3-FB5C-48FE-8479-728FCCDB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7916-7083-4BC0-BA9C-9646DF52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C6F96-861E-412C-92DB-88D64F4D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3CCB-C523-4AC7-8CA3-95BA1580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6DB-D7D4-41D2-898C-D33FC74D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3EB6-D6EE-48D4-8549-F408015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DC00-8E79-417F-8C9D-1509355F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95D4-5419-4321-B7C1-5E5FC0E3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288C-C6E3-45A6-A741-E3CBAA6C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E944-9528-4C8C-88D5-0B34618B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8936-BC95-4A47-AB50-DF0E2412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845C-B2DA-4740-8435-2CB44A0D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AB1D-B4FF-4825-A3B7-BC5DB9BD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2333-2979-4CD6-B5D6-96ADF35B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6508-E7FB-4504-8102-B6BBA3BF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AD5-EB62-487F-9BF4-FC735460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8D7E-747F-44EA-AAFD-19600F7F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456E3-A37A-45DD-81DF-B0F14FBC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98CF-6F14-4174-B70D-440E797A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8CE9-9C36-461D-97B3-597A31D2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731C-9290-439A-9937-341716F9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B1BF-71FA-47BD-A415-A94B4EE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C50C-0270-4F29-8CA9-D69C91B4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26DB-176E-4556-BE56-675CAFEB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5D16-B509-49FB-97C3-BAC37BED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362EF-8851-4BFF-89BE-2A076544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6E9-9BA8-4D26-9A10-204EE6DE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42992-366A-4F59-903C-C0CF8EA8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205E8-6F19-49D4-B60B-21767707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4DF1-623B-445C-8AAC-41444B1E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CD054-65FC-4C76-BDA2-7318EF22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439E-EC95-47EE-9662-12C405F0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19803-219A-40F6-BD5B-D8A12A5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5D135-BD41-4FE8-AA57-FFAAFF52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EF273-53CB-4225-A0B6-4B57029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3E003-8C4C-438D-B6D9-1465102B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AF051-E94D-46BB-A982-697F0B29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003-6677-4424-BA5F-9EA372AE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E65E0-0AE7-4E19-A990-A9F4A233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FDF92-36D9-41E2-B341-EFDA3727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85700-4C0A-4504-9191-4AADFFC3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F5F3-A392-4234-969E-4742AB94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E045-A602-4D6E-A4B7-BA7B0DD1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27D0-BEC1-4FFB-BDAC-42632257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F980-8E25-4A01-9C18-710BD7E3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A03E2-E12D-4C42-BE68-F26243E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F563A-8736-4167-B11B-B65044CB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409EC-34E0-47CF-8A9D-BE454D02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45F-E128-4917-99A6-3B0079B4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5D4A2-26DA-4367-918D-4BFAE342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FE45F-EB7D-4457-A5C5-B023DDA8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B48BE-4B85-4FD9-A81F-55F690F0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4BCC4-951F-4FB8-9DA3-C8EB8273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691DA-EE4C-4182-97CB-6FE3FA3E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2F0E9-7EDA-4856-ADCE-516DDFA6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8266A-3CA6-4B4F-8CC9-83253B5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178C1-D333-4E82-B9B4-A5D3ED14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3A38B-9607-4559-B8D8-AD90ED65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3B9E0-68FF-4EFD-BD09-EA8C91C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844-FDFF-4EB7-8CC4-60703D3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C9151-6864-4E90-9CDF-A9D6457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E1F6C-01BA-4EB7-BD92-0161E4B2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FE007-1D6F-4827-A40D-CBC002E7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A0C58-6106-480F-8298-0D198C13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AA050-D242-4B8A-ABD3-1108D615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48A-7C22-466D-8539-AC329EE5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368D-8B74-429B-98C2-9FFBAE9F3262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E1B-F008-4DEC-AE4A-374A5602861D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AAAF-DBD9-495D-B1B1-B1661F138EFC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D198-364E-403F-A5AC-B7393FC55D1C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71BD-F5A2-4724-9A09-9E2E119123FC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2C7C-7C90-476E-A8E9-ED1A9D78EA04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B0CE-9403-4439-BA30-A71F7D37E309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530280" y="4157640"/>
            <a:ext cx="8163000" cy="21700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AS Level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American Beauty (1999)"/>
          <p:cNvPicPr/>
          <p:nvPr/>
        </p:nvPicPr>
        <p:blipFill>
          <a:blip r:embed="rId2"/>
          <a:stretch/>
        </p:blipFill>
        <p:spPr>
          <a:xfrm>
            <a:off x="4067280" y="404640"/>
            <a:ext cx="4734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sin-city"/>
          <p:cNvPicPr/>
          <p:nvPr/>
        </p:nvPicPr>
        <p:blipFill>
          <a:blip r:embed="rId1"/>
          <a:stretch/>
        </p:blipFill>
        <p:spPr>
          <a:xfrm>
            <a:off x="395280" y="836640"/>
            <a:ext cx="828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8" descr="men-in-black-2-movie"/>
          <p:cNvPicPr/>
          <p:nvPr/>
        </p:nvPicPr>
        <p:blipFill>
          <a:blip r:embed="rId1"/>
          <a:stretch/>
        </p:blipFill>
        <p:spPr>
          <a:xfrm>
            <a:off x="755640" y="476280"/>
            <a:ext cx="7505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Colou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PMingLiU"/>
              </a:rPr>
              <a:t>Colour carries certain connotations which may add meaning to a scene (i.e. Red = Danger/Passion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PMingLiU"/>
              </a:rPr>
              <a:t>Can give a scene a particular look, feel or moo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PMingLiU"/>
              </a:rPr>
              <a:t>Can be used for dramatic effect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5" descr="virgin-suicides_420"/>
          <p:cNvPicPr/>
          <p:nvPr/>
        </p:nvPicPr>
        <p:blipFill>
          <a:blip r:embed="rId1"/>
          <a:stretch/>
        </p:blipFill>
        <p:spPr>
          <a:xfrm>
            <a:off x="4876920" y="1600200"/>
            <a:ext cx="3765600" cy="1792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american_beauty_2"/>
          <p:cNvPicPr/>
          <p:nvPr/>
        </p:nvPicPr>
        <p:blipFill>
          <a:blip r:embed="rId2"/>
          <a:stretch/>
        </p:blipFill>
        <p:spPr>
          <a:xfrm>
            <a:off x="4859280" y="3860640"/>
            <a:ext cx="373392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Ligh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To highlight important characters or objects within the fr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To make characters look mysterious by shading sections of the face &amp; bo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To reflect a characters mental state/hidden emotions (i.e. bright = happy, dark = disturbed, strobe effect = confus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c1eeff"/>
              </a:solidFill>
              <a:latin typeface="Consolas"/>
              <a:ea typeface="PMingLiU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000" spc="-1" strike="noStrike">
              <a:solidFill>
                <a:srgbClr val="ffffff"/>
              </a:solidFill>
              <a:latin typeface="Corbel"/>
              <a:ea typeface="PMingLiU"/>
            </a:endParaRPr>
          </a:p>
        </p:txBody>
      </p:sp>
      <p:pic>
        <p:nvPicPr>
          <p:cNvPr id="401" name="Picture 5" descr="American Beauty (1999)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88040"/>
          </a:xfrm>
          <a:prstGeom prst="rect">
            <a:avLst/>
          </a:prstGeom>
          <a:ln w="0">
            <a:noFill/>
          </a:ln>
        </p:spPr>
      </p:pic>
      <p:sp>
        <p:nvSpPr>
          <p:cNvPr id="402" name="Oval 6"/>
          <p:cNvSpPr/>
          <p:nvPr/>
        </p:nvSpPr>
        <p:spPr>
          <a:xfrm>
            <a:off x="4114800" y="4952880"/>
            <a:ext cx="1523880" cy="990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EY 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1828800" y="2133720"/>
            <a:ext cx="1447920" cy="1143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LLER LIGH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8"/>
          <p:cNvSpPr/>
          <p:nvPr/>
        </p:nvSpPr>
        <p:spPr>
          <a:xfrm>
            <a:off x="6248520" y="1143000"/>
            <a:ext cx="1295280" cy="990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 flipV="1">
            <a:off x="487692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1"/>
          <p:cNvSpPr/>
          <p:nvPr/>
        </p:nvSpPr>
        <p:spPr>
          <a:xfrm flipH="1" flipV="1">
            <a:off x="609480" y="1066320"/>
            <a:ext cx="152424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2"/>
          <p:cNvSpPr/>
          <p:nvPr/>
        </p:nvSpPr>
        <p:spPr>
          <a:xfrm>
            <a:off x="3276720" y="2819520"/>
            <a:ext cx="236196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>
            <a:off x="3048120" y="3124080"/>
            <a:ext cx="68580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5"/>
          <p:cNvSpPr/>
          <p:nvPr/>
        </p:nvSpPr>
        <p:spPr>
          <a:xfrm flipH="1">
            <a:off x="4419720" y="167652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7543800" y="1600200"/>
            <a:ext cx="12193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nsolas"/>
                <a:ea typeface="PMingLiU"/>
              </a:rPr>
              <a:t>Low Key Lighting</a:t>
            </a:r>
            <a:r>
              <a:rPr b="0" lang="en-GB" sz="4000" spc="-1" strike="noStrike">
                <a:solidFill>
                  <a:srgbClr val="000000"/>
                </a:solidFill>
                <a:latin typeface="Consolas"/>
                <a:ea typeface="PMingLiU"/>
              </a:rPr>
              <a:t> of Ligh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560" y="1628640"/>
            <a:ext cx="4249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Created by using only the key &amp; back ligh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Produces  sharp contrasts of light and dark area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Deep, distinct shadows/silhouettes are form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5" descr="SinCity_2d"/>
          <p:cNvPicPr/>
          <p:nvPr/>
        </p:nvPicPr>
        <p:blipFill>
          <a:blip r:embed="rId1"/>
          <a:stretch/>
        </p:blipFill>
        <p:spPr>
          <a:xfrm>
            <a:off x="4572000" y="2565360"/>
            <a:ext cx="4572000" cy="2575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5292720" y="595008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Example = Horror fil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nsolas"/>
                <a:ea typeface="PMingLiU"/>
              </a:rPr>
              <a:t>High Key Ligh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560" y="162864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More filler lights are used. Lighting is natural and realistic to our ey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Produces brightly lit sets or a sunny day (right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  <a:ea typeface="PMingLiU"/>
              </a:rPr>
              <a:t>Example: Rom-Co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7" name="Picture 6" descr="legallyblonde2"/>
          <p:cNvPicPr/>
          <p:nvPr/>
        </p:nvPicPr>
        <p:blipFill>
          <a:blip r:embed="rId1"/>
          <a:stretch/>
        </p:blipFill>
        <p:spPr>
          <a:xfrm>
            <a:off x="4916520" y="1700280"/>
            <a:ext cx="35798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olas"/>
              </a:rPr>
              <a:t>What kind of lighting is used?</a:t>
            </a:r>
            <a:r>
              <a:rPr b="0" lang="en-US" sz="3600" spc="-1" strike="noStrike">
                <a:solidFill>
                  <a:srgbClr val="000000"/>
                </a:solidFill>
                <a:latin typeface="Consolas"/>
              </a:rPr>
              <a:t> images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Picture 5" descr="man"/>
          <p:cNvPicPr/>
          <p:nvPr/>
        </p:nvPicPr>
        <p:blipFill>
          <a:blip r:embed="rId1"/>
          <a:stretch/>
        </p:blipFill>
        <p:spPr>
          <a:xfrm>
            <a:off x="3505320" y="1752480"/>
            <a:ext cx="2514600" cy="1825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a-danas_ins2"/>
          <p:cNvPicPr/>
          <p:nvPr/>
        </p:nvPicPr>
        <p:blipFill>
          <a:blip r:embed="rId2"/>
          <a:stretch/>
        </p:blipFill>
        <p:spPr>
          <a:xfrm>
            <a:off x="304920" y="4311720"/>
            <a:ext cx="2743200" cy="1778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donniedarko_800"/>
          <p:cNvPicPr/>
          <p:nvPr/>
        </p:nvPicPr>
        <p:blipFill>
          <a:blip r:embed="rId3"/>
          <a:stretch/>
        </p:blipFill>
        <p:spPr>
          <a:xfrm>
            <a:off x="3276720" y="4289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Donnie_Darko-2"/>
          <p:cNvPicPr/>
          <p:nvPr/>
        </p:nvPicPr>
        <p:blipFill>
          <a:blip r:embed="rId4"/>
          <a:stretch/>
        </p:blipFill>
        <p:spPr>
          <a:xfrm>
            <a:off x="457200" y="1752480"/>
            <a:ext cx="2743200" cy="1808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american-pie-2"/>
          <p:cNvPicPr/>
          <p:nvPr/>
        </p:nvPicPr>
        <p:blipFill>
          <a:blip r:embed="rId5"/>
          <a:stretch/>
        </p:blipFill>
        <p:spPr>
          <a:xfrm>
            <a:off x="6172200" y="4267080"/>
            <a:ext cx="2736720" cy="1770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filmchar"/>
          <p:cNvPicPr/>
          <p:nvPr/>
        </p:nvPicPr>
        <p:blipFill>
          <a:blip r:embed="rId6"/>
          <a:stretch/>
        </p:blipFill>
        <p:spPr>
          <a:xfrm>
            <a:off x="6248520" y="1752480"/>
            <a:ext cx="2590560" cy="18068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2"/>
          <p:cNvSpPr/>
          <p:nvPr/>
        </p:nvSpPr>
        <p:spPr>
          <a:xfrm>
            <a:off x="-17280" y="1834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5867280" y="4342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-360" y="43426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6107040" y="1828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985480" y="4342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7"/>
          <p:cNvSpPr/>
          <p:nvPr/>
        </p:nvSpPr>
        <p:spPr>
          <a:xfrm>
            <a:off x="3283920" y="18280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olas"/>
              </a:rPr>
              <a:t>Analysing Mise en Scen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2" name="Picture 4" descr="American Beauty (1999)"/>
          <p:cNvPicPr/>
          <p:nvPr/>
        </p:nvPicPr>
        <p:blipFill>
          <a:blip r:embed="rId1"/>
          <a:stretch/>
        </p:blipFill>
        <p:spPr>
          <a:xfrm>
            <a:off x="762120" y="1268280"/>
            <a:ext cx="7753320" cy="52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Mise-en-scen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A French term meaning </a:t>
            </a:r>
            <a:r>
              <a:rPr b="0" i="1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what is put into a scene or fram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Visual information in </a:t>
            </a:r>
            <a:r>
              <a:rPr b="0" i="1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front 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of the camer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Communicates essential information to the audienc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5 key elements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Settings &amp; Pro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Costume, Hair &amp; Make U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Facial Expressions &amp; Body Langu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Lighting &amp; Colou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Positioning of characters/objects within the fr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1eeff"/>
                </a:solidFill>
                <a:latin typeface="Consolas"/>
              </a:rPr>
              <a:t>Facial Expression/Body Languag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Facial Expressions provide a clear indicator of how someone is feeling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If someone is smiling broadly, we assume they are happy but we may get a different feeling if this is accompanied by scary musi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Body Language may also indicate how a character feels towards another character or may reflect the state of their relationshi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TASK: What meanings/emotions do the following images conve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spiderman_kiss2"/>
          <p:cNvPicPr/>
          <p:nvPr/>
        </p:nvPicPr>
        <p:blipFill>
          <a:blip r:embed="rId1"/>
          <a:stretch/>
        </p:blipFill>
        <p:spPr>
          <a:xfrm>
            <a:off x="755640" y="476280"/>
            <a:ext cx="7421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shining"/>
          <p:cNvPicPr/>
          <p:nvPr/>
        </p:nvPicPr>
        <p:blipFill>
          <a:blip r:embed="rId1"/>
          <a:stretch/>
        </p:blipFill>
        <p:spPr>
          <a:xfrm>
            <a:off x="1835280" y="189000"/>
            <a:ext cx="52578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mm_young"/>
          <p:cNvPicPr/>
          <p:nvPr/>
        </p:nvPicPr>
        <p:blipFill>
          <a:blip r:embed="rId1"/>
          <a:stretch/>
        </p:blipFill>
        <p:spPr>
          <a:xfrm>
            <a:off x="1979640" y="189000"/>
            <a:ext cx="51213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Positio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Positioning within a frame can draw our attention to an important character/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A film-maker can use positioning to indicate relationships between peop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What does the positioning in the following images reveal about the characters/fil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breakup"/>
          <p:cNvPicPr/>
          <p:nvPr/>
        </p:nvPicPr>
        <p:blipFill>
          <a:blip r:embed="rId1"/>
          <a:stretch/>
        </p:blipFill>
        <p:spPr>
          <a:xfrm>
            <a:off x="684360" y="981000"/>
            <a:ext cx="7866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2:40:49Z</dcterms:created>
  <dc:creator>Grainne</dc:creator>
  <dc:description/>
  <dc:language>en-US</dc:language>
  <cp:lastModifiedBy>Grainne</cp:lastModifiedBy>
  <dcterms:modified xsi:type="dcterms:W3CDTF">2010-09-22T12:19:08Z</dcterms:modified>
  <cp:revision>3</cp:revision>
  <dc:subject/>
  <dc:title>Mise en Scene</dc:title>
</cp:coreProperties>
</file>